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3.gif" ContentType="image/gif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37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07E-DDB9-463E-90A8-80D61D81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5BF-C467-478D-BC16-CE42E260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4C4F7-2326-4235-A3B6-B6BF86A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0D322-76A6-4558-93A2-F42EE9E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3F49-E3A0-4D34-93D5-89ADC4A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DAE0C-0EC3-4649-9639-1B2B731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D150-5ACB-4F3C-9773-A2CC28A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71193-F16D-452C-9413-37B9B2A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6BD20-4909-482C-B5D4-17197EB0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8087-23BF-467F-A668-0B2CF11D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EBAA9-6410-4B10-952E-D1F42E08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69E-161E-4F89-90F0-03F50E02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DCE-5D97-4C2F-A2CD-4110F07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D6B4-439C-438B-95BB-65B1478A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1699-4A44-46B5-BDA1-8A859753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969E-9389-43A9-884B-187DBCC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67E7-EDC2-4AAE-9BA0-400018EF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727C-5F7C-4FC5-8DE8-3144B66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C857-52D4-4D9E-B7BD-6C689225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8A9-22DE-432D-B72E-DE2AED2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84E-5C65-42DD-BF92-B61538D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FF21-9EFF-45F2-B9CA-2BBDDC7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5144-6B10-4FFD-992A-1A0E7F5A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7944-D061-40E8-BF6E-7145634E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FF4-D289-4070-9C0D-5DEE35F1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4E05-FAE3-468F-8A69-16895BA4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1352-14AE-48FD-AB36-C463DC6E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C432-6AEA-47F8-A0C2-476208EA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C616-A394-4B91-BA83-928AED14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4D47-B81D-4C15-9A26-FBD4BF2C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2B40-8E75-4644-9B2C-61AE981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6B-FE3A-43FB-B451-1DC1A78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A364-531C-45D9-B2B8-4347A24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2FF8-4872-4F3A-95FB-C045CF6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FC2A-AA16-4813-9F56-B4062E6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9707-F016-495D-A40F-D13EE71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2EA0-FFAF-4E65-AC00-2640BD72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E116-0C09-4C88-94E5-10EC7F98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9A47-264D-4723-9A81-CEC0127D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CCE4-112C-4238-A997-71DB47E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30CC-3369-47E3-B2CF-439FA947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BC1E-161E-423C-9ABD-F4B9186C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DE4-5173-4E2E-9FFE-323C5CFA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F451-2568-43D4-BA09-5EC956F5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A389-7F51-465A-BA0C-0B5C910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12AA-7F29-403C-A8C5-8E9D0176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9F4F-99D3-4BB1-B8B0-4E7CD14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F3E6-9BBE-4055-AE97-ADEA7A6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3628-4884-455E-A674-1C8B88D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BC57-40A3-4832-BAB8-65982DA6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9F06-EB74-4EC3-8DD1-11DEB159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9DAF-3295-49BC-B0BB-63CBFA3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5AD4-DC2C-41FD-A541-BE5F3AFD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AD9-A3D4-4BE4-B332-DDDB5F6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4773-AA46-4457-8978-980D23B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CCDE-7F20-40DC-BB44-DC0CF7F5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0E46-DEA7-40AB-ACF0-6A29336D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1364-85C2-4AD6-8930-1D65267C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A69D-D635-484A-A989-152CA83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D2F6-DAB9-4BF0-B55B-09D8E5E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6E9A2-AF75-44F7-B298-DC5E2A0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B2E0-F2CD-4679-824F-4F409F2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723C0-C984-402B-9FEE-2E25D5DA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6A71-27D5-4CE5-94E4-338AEC5E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39E-A1EA-43F5-B164-E81779B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75A5-9FCB-4AAF-AA5A-EF3B66DA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B681-D341-4610-89DE-0F32A8F2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E7B2-6E36-4862-9682-2332A7E1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B14D-E590-4E6B-9446-E693628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2140-E46E-4F34-A0C0-0D3536C9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3C393-4373-4E0A-AF23-EAB7F9B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81C3-86F9-45A7-B824-8C3D651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CC23-0ECB-4632-B2DA-D3DE030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872B-D702-41DE-9425-C5BA846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FABF6-4C5B-4B3C-A731-779ADB6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05C-B056-4AC9-A277-506F62F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67BD-A28F-4E3A-A6DC-28F9EE2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6181-7960-4223-984A-025F332B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6313-84CB-4C08-B72D-0B09D0E6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032E-19A0-449A-BF27-03910D9E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4549-7E2D-4650-BA58-B06B7F5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7712-254A-4B63-B348-97BF156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1F96-C291-45D1-AC55-2265F3E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9237D-F8B8-424E-BFF9-0CC4B4D1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CAC1D-405D-4C20-9EDC-762913F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E2E5-6BE1-436A-B88D-BAF983D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7A0-C005-461C-95B0-70F40C1E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84211-BFD3-4799-A7C3-9BC297D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B5BF7-D9A8-4941-AB9E-188ADB6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FE37-7494-443C-A517-863A3CB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287F-E37A-4F46-B842-689E10E2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75F6-D2F4-4A51-833C-57E08B1C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CD01-2575-4770-BDEA-9333793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7265-69C1-4E0A-9DBD-74C110C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8AAE-0826-4DA1-9871-65204501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AAEA-D897-450B-8EBB-6E5D89BB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F19C-2F7F-439B-8B81-A520DC2F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F98-6A8F-40F8-881E-166A513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FEDF-A6FD-48C3-A4B6-81C3DB9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E6008-EE40-43D1-8A61-79AE57E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9E7A0-FFB5-4EEF-A43E-5D1A93BE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B91B-B275-4BD9-B1E3-6B0C811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DDC2C-9109-4985-8882-A672126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3C41C-238A-4191-86AD-A45A9741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1E33-998D-495E-A004-81E91D5B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F3754-B792-4840-9A2B-3EB41E9E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C7C4C-4085-4400-82B9-9EAB3BCD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03273-B618-49D4-A427-76F675BD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0E76-9BB8-40C9-9C5B-200C556B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009-B8C0-407A-8B83-0507AB899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1A26-A59D-47D0-8EBE-4E9770953B09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31D-136E-43F3-A1F0-12002166F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BF1-6CCC-460C-9606-75DAA06F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5FD1-46DF-491E-B8AB-FCC5A19D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5D9-5FDB-41BC-A9DA-FEBA6393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6D7-10F5-455C-8FBF-6F3DFE278249}" type="slidenum">
              <a:rPr b="0" lang="en-US" sz="1400" spc="-1" strike="noStrike">
                <a:solidFill>
                  <a:srgbClr val="46363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A367-FC48-4C76-B892-5489AC7BAF16}" type="slidenum">
              <a:rPr b="0" lang="en-US" sz="1400" spc="-1" strike="noStrike">
                <a:solidFill>
                  <a:srgbClr val="46363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martinlutherkingjr.com/index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hyperlink" Target="http://www.drmartinlutherkingjr.com/ihaveadream.htm" TargetMode="External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hyperlink" Target="http://www.americanrhetoric.com/speeches/mlkihaveadream2.htm" TargetMode="External"/><Relationship Id="rId5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2"/>
          <p:cNvSpPr/>
          <p:nvPr/>
        </p:nvSpPr>
        <p:spPr>
          <a:xfrm>
            <a:off x="0" y="1371600"/>
            <a:ext cx="4419720" cy="368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-17 &amp; 18-12 Use p. 170-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What do you call the basic freedoms and rights, such as freedom of speech, that all people should enjo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989 university students gathered in Beijing’s Tiananmen Square to call the government to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205740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23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7" descr="DSC00908"/>
          <p:cNvPicPr/>
          <p:nvPr/>
        </p:nvPicPr>
        <p:blipFill>
          <a:blip r:embed="rId1"/>
          <a:stretch/>
        </p:blipFill>
        <p:spPr>
          <a:xfrm>
            <a:off x="4546440" y="76320"/>
            <a:ext cx="429768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0" descr="006-Tiananmen_Square_2"/>
          <p:cNvPicPr/>
          <p:nvPr/>
        </p:nvPicPr>
        <p:blipFill>
          <a:blip r:embed="rId2"/>
          <a:stretch/>
        </p:blipFill>
        <p:spPr>
          <a:xfrm>
            <a:off x="4267080" y="3605040"/>
            <a:ext cx="4876920" cy="3252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4" descr="china"/>
          <p:cNvPicPr/>
          <p:nvPr/>
        </p:nvPicPr>
        <p:blipFill>
          <a:blip r:embed="rId3"/>
          <a:stretch/>
        </p:blipFill>
        <p:spPr>
          <a:xfrm>
            <a:off x="1066680" y="4952880"/>
            <a:ext cx="1724040" cy="15242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7"/>
          <p:cNvSpPr/>
          <p:nvPr/>
        </p:nvSpPr>
        <p:spPr>
          <a:xfrm>
            <a:off x="0" y="0"/>
            <a:ext cx="4419720" cy="127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17 &amp; 1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6 CHINA TEST next block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have a Dream” poster-nex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arrested"/>
          <p:cNvPicPr/>
          <p:nvPr/>
        </p:nvPicPr>
        <p:blipFill>
          <a:blip r:embed="rId1"/>
          <a:stretch/>
        </p:blipFill>
        <p:spPr>
          <a:xfrm>
            <a:off x="228600" y="457200"/>
            <a:ext cx="5943600" cy="59673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67816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705720" y="914400"/>
            <a:ext cx="2057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of many arrests for his fight for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incoln from air"/>
          <p:cNvPicPr/>
          <p:nvPr/>
        </p:nvPicPr>
        <p:blipFill>
          <a:blip r:embed="rId1"/>
          <a:stretch/>
        </p:blipFill>
        <p:spPr>
          <a:xfrm>
            <a:off x="3809880" y="457200"/>
            <a:ext cx="4964400" cy="64008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ugust 28, 1963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arch on Washington</a:t>
            </a:r>
            <a:br>
              <a:rPr sz="4400"/>
            </a:br>
            <a:br>
              <a:rPr sz="44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“I Have a Dream”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mlk11"/>
          <p:cNvPicPr/>
          <p:nvPr/>
        </p:nvPicPr>
        <p:blipFill>
          <a:blip r:embed="rId1"/>
          <a:stretch/>
        </p:blipFill>
        <p:spPr>
          <a:xfrm>
            <a:off x="4978440" y="228600"/>
            <a:ext cx="4165560" cy="62485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 Friend to all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mlk3"/>
          <p:cNvPicPr/>
          <p:nvPr/>
        </p:nvPicPr>
        <p:blipFill>
          <a:blip r:embed="rId1"/>
          <a:stretch/>
        </p:blipFill>
        <p:spPr>
          <a:xfrm>
            <a:off x="0" y="304920"/>
            <a:ext cx="4651200" cy="63244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35812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1964: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 Nobel Peace Prize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Winner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mlk3walking"/>
          <p:cNvPicPr/>
          <p:nvPr/>
        </p:nvPicPr>
        <p:blipFill>
          <a:blip r:embed="rId1"/>
          <a:stretch/>
        </p:blipFill>
        <p:spPr>
          <a:xfrm>
            <a:off x="1676520" y="68580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retta marching by his side……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mlk4"/>
          <p:cNvPicPr/>
          <p:nvPr/>
        </p:nvPicPr>
        <p:blipFill>
          <a:blip r:embed="rId1"/>
          <a:stretch/>
        </p:blipFill>
        <p:spPr>
          <a:xfrm>
            <a:off x="0" y="380880"/>
            <a:ext cx="5570640" cy="6248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3526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Letter from Birmingham Jail”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Makes an impact.</a:t>
            </a:r>
            <a:br>
              <a:rPr sz="4800"/>
            </a:b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sa"/>
          <p:cNvPicPr/>
          <p:nvPr/>
        </p:nvPicPr>
        <p:blipFill>
          <a:blip r:embed="rId1"/>
          <a:stretch/>
        </p:blipFill>
        <p:spPr>
          <a:xfrm>
            <a:off x="304920" y="457200"/>
            <a:ext cx="4981320" cy="6172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486400" y="609120"/>
            <a:ext cx="3657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ROSA PARKS,</a:t>
            </a:r>
            <a:br>
              <a:rPr sz="6600"/>
            </a:b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a woman of courage.</a:t>
            </a:r>
            <a:endParaRPr b="0" i="1" lang="en-US" sz="66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elma"/>
          <p:cNvPicPr/>
          <p:nvPr/>
        </p:nvPicPr>
        <p:blipFill>
          <a:blip r:embed="rId1"/>
          <a:stretch/>
        </p:blipFill>
        <p:spPr>
          <a:xfrm>
            <a:off x="3402000" y="533520"/>
            <a:ext cx="5742000" cy="5892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Freedom March…</a:t>
            </a:r>
            <a:br>
              <a:rPr sz="5400"/>
            </a:br>
            <a:br>
              <a:rPr sz="5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elma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to Montgomery, Alaba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selma2"/>
          <p:cNvPicPr/>
          <p:nvPr/>
        </p:nvPicPr>
        <p:blipFill>
          <a:blip r:embed="rId1"/>
          <a:stretch/>
        </p:blipFill>
        <p:spPr>
          <a:xfrm>
            <a:off x="990720" y="434880"/>
            <a:ext cx="659124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memphis"/>
          <p:cNvPicPr/>
          <p:nvPr/>
        </p:nvPicPr>
        <p:blipFill>
          <a:blip r:embed="rId1"/>
          <a:stretch/>
        </p:blipFill>
        <p:spPr>
          <a:xfrm>
            <a:off x="0" y="304920"/>
            <a:ext cx="5508720" cy="6172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86040" y="609120"/>
            <a:ext cx="29718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Dr. King is fatally shot in Memphis, Tennessee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BJ802TiananmenSq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family"/>
          <p:cNvPicPr/>
          <p:nvPr/>
        </p:nvPicPr>
        <p:blipFill>
          <a:blip r:embed="rId1"/>
          <a:stretch/>
        </p:blipFill>
        <p:spPr>
          <a:xfrm>
            <a:off x="4191120" y="380880"/>
            <a:ext cx="4279680" cy="60962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Coretta and children …….Mourn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lastmarch"/>
          <p:cNvPicPr/>
          <p:nvPr/>
        </p:nvPicPr>
        <p:blipFill>
          <a:blip r:embed="rId1"/>
          <a:stretch/>
        </p:blipFill>
        <p:spPr>
          <a:xfrm>
            <a:off x="0" y="609480"/>
            <a:ext cx="4334040" cy="6248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pril 19, 1968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Dr. King’s funeral is an international event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v041968"/>
          <p:cNvPicPr/>
          <p:nvPr/>
        </p:nvPicPr>
        <p:blipFill>
          <a:blip r:embed="rId1"/>
          <a:stretch/>
        </p:blipFill>
        <p:spPr>
          <a:xfrm>
            <a:off x="2209680" y="228600"/>
            <a:ext cx="468648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mlkdayt"/>
          <p:cNvPicPr/>
          <p:nvPr/>
        </p:nvPicPr>
        <p:blipFill>
          <a:blip r:embed="rId1"/>
          <a:stretch/>
        </p:blipFill>
        <p:spPr>
          <a:xfrm>
            <a:off x="2971800" y="457200"/>
            <a:ext cx="6172200" cy="60357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743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vember 2, 1986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sident Reagan declares a national holiday in King’s hono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arrested"/>
          <p:cNvPicPr/>
          <p:nvPr/>
        </p:nvPicPr>
        <p:blipFill>
          <a:blip r:embed="rId1"/>
          <a:stretch/>
        </p:blipFill>
        <p:spPr>
          <a:xfrm>
            <a:off x="3124080" y="457200"/>
            <a:ext cx="4969080" cy="594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qual rights for all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attack"/>
          <p:cNvPicPr/>
          <p:nvPr/>
        </p:nvPicPr>
        <p:blipFill>
          <a:blip r:embed="rId1"/>
          <a:stretch/>
        </p:blipFill>
        <p:spPr>
          <a:xfrm>
            <a:off x="457200" y="533520"/>
            <a:ext cx="4802040" cy="60195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9200" y="25905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Tolerance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bullet hole"/>
          <p:cNvPicPr/>
          <p:nvPr/>
        </p:nvPicPr>
        <p:blipFill>
          <a:blip r:embed="rId1"/>
          <a:stretch/>
        </p:blipFill>
        <p:spPr>
          <a:xfrm>
            <a:off x="2819520" y="304920"/>
            <a:ext cx="6324480" cy="62784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Non-violence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alaspe"/>
          <p:cNvPicPr/>
          <p:nvPr/>
        </p:nvPicPr>
        <p:blipFill>
          <a:blip r:embed="rId1"/>
          <a:stretch/>
        </p:blipFill>
        <p:spPr>
          <a:xfrm>
            <a:off x="0" y="457200"/>
            <a:ext cx="5200560" cy="59436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257800" y="60948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Faith….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car shots"/>
          <p:cNvPicPr/>
          <p:nvPr/>
        </p:nvPicPr>
        <p:blipFill>
          <a:blip r:embed="rId1"/>
          <a:stretch/>
        </p:blipFill>
        <p:spPr>
          <a:xfrm>
            <a:off x="2971800" y="838080"/>
            <a:ext cx="6172200" cy="54882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ny die for the cause of Civil Rights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cross"/>
          <p:cNvPicPr/>
          <p:nvPr/>
        </p:nvPicPr>
        <p:blipFill>
          <a:blip r:embed="rId1"/>
          <a:stretch/>
        </p:blipFill>
        <p:spPr>
          <a:xfrm>
            <a:off x="0" y="4572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8840" y="6094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Peace….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Tiananmen_Square_protests"/>
          <p:cNvPicPr/>
          <p:nvPr/>
        </p:nvPicPr>
        <p:blipFill>
          <a:blip r:embed="rId1"/>
          <a:stretch/>
        </p:blipFill>
        <p:spPr>
          <a:xfrm>
            <a:off x="0" y="38088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protest"/>
          <p:cNvPicPr/>
          <p:nvPr/>
        </p:nvPicPr>
        <p:blipFill>
          <a:blip r:embed="rId2"/>
          <a:stretch/>
        </p:blipFill>
        <p:spPr>
          <a:xfrm>
            <a:off x="5105520" y="380880"/>
            <a:ext cx="4038480" cy="3581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tank"/>
          <p:cNvPicPr/>
          <p:nvPr/>
        </p:nvPicPr>
        <p:blipFill>
          <a:blip r:embed="rId3"/>
          <a:stretch/>
        </p:blipFill>
        <p:spPr>
          <a:xfrm>
            <a:off x="3581280" y="3581280"/>
            <a:ext cx="5562720" cy="3276720"/>
          </a:xfrm>
          <a:prstGeom prst="rect">
            <a:avLst/>
          </a:prstGeom>
          <a:ln w="0">
            <a:noFill/>
          </a:ln>
        </p:spPr>
      </p:pic>
      <p:sp>
        <p:nvSpPr>
          <p:cNvPr id="380" name="WordArt 10"/>
          <p:cNvSpPr txBox="1"/>
          <p:nvPr/>
        </p:nvSpPr>
        <p:spPr>
          <a:xfrm rot="20962800">
            <a:off x="2666880" y="1294920"/>
            <a:ext cx="3514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636000"/>
                </a:gradFill>
                <a:latin typeface="Impact"/>
              </a:rPr>
              <a:t>Tiananmen Squ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63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dog"/>
          <p:cNvPicPr/>
          <p:nvPr/>
        </p:nvPicPr>
        <p:blipFill>
          <a:blip r:embed="rId1"/>
          <a:stretch/>
        </p:blipFill>
        <p:spPr>
          <a:xfrm>
            <a:off x="4361040" y="380880"/>
            <a:ext cx="4782960" cy="6172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28954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quality for all…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eati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40384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low us to eat at your table…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family"/>
          <p:cNvPicPr/>
          <p:nvPr/>
        </p:nvPicPr>
        <p:blipFill>
          <a:blip r:embed="rId1"/>
          <a:stretch/>
        </p:blipFill>
        <p:spPr>
          <a:xfrm>
            <a:off x="4362480" y="457200"/>
            <a:ext cx="4781520" cy="6095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The King family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fear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49798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ersistence will prevail…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funeral2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498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ousands march in Detroit…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funerala"/>
          <p:cNvPicPr/>
          <p:nvPr/>
        </p:nvPicPr>
        <p:blipFill>
          <a:blip r:embed="rId1"/>
          <a:stretch/>
        </p:blipFill>
        <p:spPr>
          <a:xfrm>
            <a:off x="4232160" y="304920"/>
            <a:ext cx="4911840" cy="6248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Dr. King’s final freedom march…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grave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5861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Free At Last…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Little Rock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esegregation of Little Rock High School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em riot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OP THE VIOLENCE!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mlk_index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524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haveadre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64000" cy="3194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4495680" y="1523880"/>
            <a:ext cx="42674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Darkness cannot drive out dark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Only light can do t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Hate cannot drive out h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Only love can do t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Hate multiplies hate, violence multiplies viol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And toughness multiplies t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In a descending spiral of destruc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---Martin Luther King,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papers"/>
          <p:cNvPicPr/>
          <p:nvPr/>
        </p:nvPicPr>
        <p:blipFill>
          <a:blip r:embed="rId1"/>
          <a:stretch/>
        </p:blipFill>
        <p:spPr>
          <a:xfrm>
            <a:off x="1143000" y="2209680"/>
            <a:ext cx="7010280" cy="43563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selma"/>
          <p:cNvPicPr/>
          <p:nvPr/>
        </p:nvPicPr>
        <p:blipFill>
          <a:blip r:embed="rId1"/>
          <a:stretch/>
        </p:blipFill>
        <p:spPr>
          <a:xfrm>
            <a:off x="838080" y="19051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 some da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daca9c"/>
              </a:solidFill>
              <a:latin typeface="Tiffany Lt BT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reaching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’ll walk hand in han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ign bus"/>
          <p:cNvPicPr/>
          <p:nvPr/>
        </p:nvPicPr>
        <p:blipFill>
          <a:blip r:embed="rId1"/>
          <a:stretch/>
        </p:blipFill>
        <p:spPr>
          <a:xfrm>
            <a:off x="914400" y="1523880"/>
            <a:ext cx="7086600" cy="49579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are not afrai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two cops king"/>
          <p:cNvPicPr/>
          <p:nvPr/>
        </p:nvPicPr>
        <p:blipFill>
          <a:blip r:embed="rId1"/>
          <a:stretch/>
        </p:blipFill>
        <p:spPr>
          <a:xfrm>
            <a:off x="1981080" y="920880"/>
            <a:ext cx="4962600" cy="5937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!!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Blessed be the Peacem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dalai lama"/>
          <p:cNvPicPr/>
          <p:nvPr/>
        </p:nvPicPr>
        <p:blipFill>
          <a:blip r:embed="rId1"/>
          <a:stretch/>
        </p:blipFill>
        <p:spPr>
          <a:xfrm>
            <a:off x="1371600" y="18288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Gandhi"/>
          <p:cNvPicPr/>
          <p:nvPr/>
        </p:nvPicPr>
        <p:blipFill>
          <a:blip r:embed="rId2"/>
          <a:stretch/>
        </p:blipFill>
        <p:spPr>
          <a:xfrm>
            <a:off x="6172200" y="1828800"/>
            <a:ext cx="1600200" cy="25146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k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1828800" cy="3047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Abraham Lincoln"/>
          <p:cNvPicPr/>
          <p:nvPr/>
        </p:nvPicPr>
        <p:blipFill>
          <a:blip r:embed="rId5"/>
          <a:stretch/>
        </p:blipFill>
        <p:spPr>
          <a:xfrm>
            <a:off x="762120" y="41148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Mother Theresa"/>
          <p:cNvPicPr/>
          <p:nvPr/>
        </p:nvPicPr>
        <p:blipFill>
          <a:blip r:embed="rId6"/>
          <a:stretch/>
        </p:blipFill>
        <p:spPr>
          <a:xfrm>
            <a:off x="7543800" y="5334120"/>
            <a:ext cx="182880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fig5"/>
          <p:cNvPicPr/>
          <p:nvPr/>
        </p:nvPicPr>
        <p:blipFill>
          <a:blip r:embed="rId1"/>
          <a:stretch/>
        </p:blipFill>
        <p:spPr>
          <a:xfrm>
            <a:off x="2438280" y="0"/>
            <a:ext cx="4286520" cy="3247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phpl9etrx_86_quest"/>
          <p:cNvPicPr/>
          <p:nvPr/>
        </p:nvPicPr>
        <p:blipFill>
          <a:blip r:embed="rId2"/>
          <a:stretch/>
        </p:blipFill>
        <p:spPr>
          <a:xfrm>
            <a:off x="6019920" y="2286000"/>
            <a:ext cx="3124080" cy="4572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photo_king_05"/>
          <p:cNvPicPr/>
          <p:nvPr/>
        </p:nvPicPr>
        <p:blipFill>
          <a:blip r:embed="rId3"/>
          <a:stretch/>
        </p:blipFill>
        <p:spPr>
          <a:xfrm>
            <a:off x="0" y="2286000"/>
            <a:ext cx="3314880" cy="4572000"/>
          </a:xfrm>
          <a:prstGeom prst="rect">
            <a:avLst/>
          </a:prstGeom>
          <a:ln w="0">
            <a:noFill/>
          </a:ln>
        </p:spPr>
      </p:pic>
      <p:sp>
        <p:nvSpPr>
          <p:cNvPr id="471" name="Action Button: Information 6">
            <a:hlinkClick r:id="rId4"/>
          </p:cNvPr>
          <p:cNvSpPr/>
          <p:nvPr/>
        </p:nvSpPr>
        <p:spPr>
          <a:xfrm>
            <a:off x="42670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roadway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Dream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—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 Have A Dr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at the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Hai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ine—7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 and color 5 illu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t least 2 phrases from MLK’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4724280" y="2209680"/>
            <a:ext cx="4419720" cy="1891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for all 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and white all toge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eam will not d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/>
          <p:nvPr/>
        </p:nvCxnSpPr>
        <p:spPr>
          <a:xfrm>
            <a:off x="2971440" y="22860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6" name="TextBox 8"/>
          <p:cNvSpPr/>
          <p:nvPr/>
        </p:nvSpPr>
        <p:spPr>
          <a:xfrm>
            <a:off x="-685800" y="762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28600" y="3809880"/>
            <a:ext cx="358128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Ideas for Ha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imination, freedom, MLK, equality, working togeth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4"/>
          <p:cNvSpPr/>
          <p:nvPr/>
        </p:nvSpPr>
        <p:spPr>
          <a:xfrm>
            <a:off x="228600" y="0"/>
            <a:ext cx="861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o do the rest of the peri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nd at least 20 or (until your make a 100) minutes playing Zondle review games for China Test this FRIDAY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 and complete “I have a Dream” poster.  If finished, turn into HR tray. This poster is due by next Fri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your Chinese Blessing you painted and attach your colored dragon pictu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you want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I will be grading them TO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finished with all of the above, you need to get a book from the back blackboard and read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http://www.crystalinks.com/chinawallarge.gif"/>
          <p:cNvPicPr/>
          <p:nvPr/>
        </p:nvPicPr>
        <p:blipFill>
          <a:blip r:embed="rId1"/>
          <a:stretch/>
        </p:blipFill>
        <p:spPr>
          <a:xfrm>
            <a:off x="2362320" y="4038480"/>
            <a:ext cx="422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 believe unarmed truth and unconditional love will have the last word……”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85" name="Picture 5" descr="img0"/>
          <p:cNvPicPr/>
          <p:nvPr/>
        </p:nvPicPr>
        <p:blipFill>
          <a:blip r:embed="rId1"/>
          <a:stretch/>
        </p:blipFill>
        <p:spPr>
          <a:xfrm>
            <a:off x="1371600" y="2590920"/>
            <a:ext cx="64468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montage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956: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trict court rules bus segregation is unconstitutional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388" name="Picture 4" descr="assault"/>
          <p:cNvPicPr/>
          <p:nvPr/>
        </p:nvPicPr>
        <p:blipFill>
          <a:blip r:embed="rId1"/>
          <a:stretch/>
        </p:blipFill>
        <p:spPr>
          <a:xfrm>
            <a:off x="43434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v032665"/>
          <p:cNvPicPr/>
          <p:nvPr/>
        </p:nvPicPr>
        <p:blipFill>
          <a:blip r:embed="rId1"/>
          <a:stretch/>
        </p:blipFill>
        <p:spPr>
          <a:xfrm>
            <a:off x="0" y="304920"/>
            <a:ext cx="4915080" cy="6553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52880" y="76212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957: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ivil Rights Commission is created by the federal government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mlk3"/>
          <p:cNvPicPr/>
          <p:nvPr/>
        </p:nvPicPr>
        <p:blipFill>
          <a:blip r:embed="rId1"/>
          <a:stretch/>
        </p:blipFill>
        <p:spPr>
          <a:xfrm>
            <a:off x="0" y="228600"/>
            <a:ext cx="5289480" cy="63244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30481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r. King was arrested numerous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imes during Civil Rights Movement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28:12Z</dcterms:created>
  <dc:creator>Selena Ramsey</dc:creator>
  <dc:description/>
  <dc:language>en-US</dc:language>
  <cp:lastModifiedBy>poweruser</cp:lastModifiedBy>
  <dcterms:modified xsi:type="dcterms:W3CDTF">2012-01-23T15:55:45Z</dcterms:modified>
  <cp:revision>41</cp:revision>
  <dc:subject/>
  <dc:title>Agenda Jan. 6, 2006</dc:title>
</cp:coreProperties>
</file>